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30BF-C772-4BDA-AC16-51AF6F31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7A9D-EC3F-4193-876A-2EE3B978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3C7-3570-49D4-B1AE-42344435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7EBE-53F1-4AD1-B298-D4DDEE00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B796-71F3-4AD7-9CD0-03823F23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8FB2-FE94-4FCE-A928-06CD52FD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309E-772B-4207-A1E8-B14BCB69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FD6-FD6B-42BB-AB61-5F84E47B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EDA0-B093-47C1-95D4-70E66BB5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F436-A91F-4836-A917-325E8180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166A-63BE-4101-A67F-292A143D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FBC4-64CC-4CE6-A147-FF2BF7AB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D945-715E-40EB-A936-B7350FE05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3760" y="76320"/>
            <a:ext cx="5562360" cy="1942920"/>
            <a:chOff x="293760" y="76320"/>
            <a:chExt cx="5562360" cy="1942920"/>
          </a:xfrm>
        </p:grpSpPr>
        <p:sp>
          <p:nvSpPr>
            <p:cNvPr id="42" name=""/>
            <p:cNvSpPr/>
            <p:nvPr/>
          </p:nvSpPr>
          <p:spPr>
            <a:xfrm>
              <a:off x="293760" y="76320"/>
              <a:ext cx="5562360" cy="1942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3800" y="1236600"/>
              <a:ext cx="487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419280" y="931680"/>
              <a:ext cx="762120" cy="3045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06760" y="942840"/>
              <a:ext cx="558720" cy="2440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10000" y="931680"/>
              <a:ext cx="762120" cy="3045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49600" y="94284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qu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52400" y="4744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fore trans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90680" y="4744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fter trans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43320" y="13129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s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81400" y="131292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abilities &amp; Equ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89080" y="2185920"/>
            <a:ext cx="5562360" cy="1943280"/>
            <a:chOff x="289080" y="2185920"/>
            <a:chExt cx="5562360" cy="1943280"/>
          </a:xfrm>
        </p:grpSpPr>
        <p:sp>
          <p:nvSpPr>
            <p:cNvPr id="53" name=""/>
            <p:cNvSpPr/>
            <p:nvPr/>
          </p:nvSpPr>
          <p:spPr>
            <a:xfrm>
              <a:off x="289080" y="2185920"/>
              <a:ext cx="5562360" cy="1943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9120" y="3384720"/>
              <a:ext cx="487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7720" y="3071880"/>
              <a:ext cx="761400" cy="3110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47800" y="3079800"/>
              <a:ext cx="763200" cy="3049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qu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47720" y="2470320"/>
              <a:ext cx="205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fore trans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86000" y="2470320"/>
              <a:ext cx="205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fter trans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38280" y="3444840"/>
              <a:ext cx="91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s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76720" y="3444840"/>
              <a:ext cx="1218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abilities &amp; Equ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14600" y="2774880"/>
              <a:ext cx="761760" cy="6098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14600" y="2927520"/>
              <a:ext cx="76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05320" y="2774880"/>
              <a:ext cx="761400" cy="3333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05320" y="2774880"/>
              <a:ext cx="76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71400" y="3521160"/>
              <a:ext cx="91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s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09480" y="352116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abilities &amp; Equ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05320" y="3079800"/>
              <a:ext cx="761400" cy="3049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qu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03120" y="4294080"/>
            <a:ext cx="5562360" cy="1942920"/>
            <a:chOff x="303120" y="4294080"/>
            <a:chExt cx="5562360" cy="1942920"/>
          </a:xfrm>
        </p:grpSpPr>
        <p:sp>
          <p:nvSpPr>
            <p:cNvPr id="69" name=""/>
            <p:cNvSpPr/>
            <p:nvPr/>
          </p:nvSpPr>
          <p:spPr>
            <a:xfrm>
              <a:off x="303120" y="4294080"/>
              <a:ext cx="5562360" cy="1942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5597280"/>
              <a:ext cx="48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440" y="443844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fore trans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360" y="443844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fter transa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28640" y="56736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s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67080" y="567360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abilities &amp; Equ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8080" y="565776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s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76160" y="56196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abilities &amp; Equ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04760" y="5292360"/>
              <a:ext cx="762120" cy="304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6060a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14040" y="4987800"/>
              <a:ext cx="762120" cy="6094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14040" y="514008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04760" y="4987800"/>
              <a:ext cx="762120" cy="3729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04760" y="5006880"/>
              <a:ext cx="7621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95680" y="4986000"/>
              <a:ext cx="761760" cy="3542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95680" y="4986000"/>
              <a:ext cx="761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04960" y="4986000"/>
              <a:ext cx="762120" cy="3844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04960" y="498600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4960" y="5364000"/>
              <a:ext cx="762120" cy="2318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4960" y="533520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04760" y="5292360"/>
              <a:ext cx="762120" cy="3049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qu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95680" y="5265360"/>
              <a:ext cx="761760" cy="3319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95680" y="5265360"/>
              <a:ext cx="76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qu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"/>
          <p:cNvGrpSpPr/>
          <p:nvPr/>
        </p:nvGrpSpPr>
        <p:grpSpPr>
          <a:xfrm>
            <a:off x="0" y="3433680"/>
            <a:ext cx="4581360" cy="3424320"/>
            <a:chOff x="0" y="3433680"/>
            <a:chExt cx="4581360" cy="3424320"/>
          </a:xfrm>
        </p:grpSpPr>
        <p:sp>
          <p:nvSpPr>
            <p:cNvPr id="796" name=""/>
            <p:cNvSpPr/>
            <p:nvPr/>
          </p:nvSpPr>
          <p:spPr>
            <a:xfrm>
              <a:off x="0" y="3433680"/>
              <a:ext cx="4581360" cy="342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89040" y="3695760"/>
              <a:ext cx="3578040" cy="2465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41520" y="616104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41520" y="566244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41520" y="5176800"/>
              <a:ext cx="475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41520" y="467820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1520" y="4194000"/>
              <a:ext cx="47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41520" y="369576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689040" y="6160680"/>
              <a:ext cx="144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1585800" y="6160680"/>
              <a:ext cx="18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2484360" y="6160680"/>
              <a:ext cx="18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368520" y="6160680"/>
              <a:ext cx="18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4267080" y="6160680"/>
              <a:ext cx="18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689040" y="5202360"/>
              <a:ext cx="896760" cy="46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1585800" y="4729320"/>
              <a:ext cx="898560" cy="47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2484360" y="3719160"/>
              <a:ext cx="884160" cy="10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3368520" y="3633840"/>
              <a:ext cx="8424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689040" y="5388120"/>
              <a:ext cx="89676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1585800" y="5040360"/>
              <a:ext cx="89856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2484360" y="4068360"/>
              <a:ext cx="884160" cy="9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3368520" y="3633840"/>
              <a:ext cx="424080" cy="43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689040" y="5587560"/>
              <a:ext cx="8967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1585800" y="5351040"/>
              <a:ext cx="89856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484360" y="4405320"/>
              <a:ext cx="884160" cy="9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3368520" y="3633480"/>
              <a:ext cx="762120" cy="77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89040" y="5587920"/>
              <a:ext cx="896760" cy="18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1585800" y="5673240"/>
              <a:ext cx="8985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484360" y="4754160"/>
              <a:ext cx="884160" cy="9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3368520" y="3844440"/>
              <a:ext cx="898560" cy="90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4267080" y="3769920"/>
              <a:ext cx="7164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89040" y="5562720"/>
              <a:ext cx="89676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585800" y="5972040"/>
              <a:ext cx="8985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2484360" y="5089320"/>
              <a:ext cx="884160" cy="89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3368520" y="4194000"/>
              <a:ext cx="898560" cy="89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4267080" y="4121280"/>
              <a:ext cx="7164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528920" y="5524560"/>
              <a:ext cx="7128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24240" y="5289480"/>
              <a:ext cx="7128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311640" y="4343400"/>
              <a:ext cx="7128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44240" y="60609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0680" y="5562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90680" y="5076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07520" y="4579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07520" y="4094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07520" y="3597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51960" y="629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550520" y="629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49080" y="629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335400" y="629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231800" y="629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320920" y="6583320"/>
              <a:ext cx="30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16200000">
              <a:off x="-802080" y="4857120"/>
              <a:ext cx="21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ash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ition at End of Year, $000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0" y="3433680"/>
              <a:ext cx="4581360" cy="342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228840" y="3494160"/>
              <a:ext cx="99072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80040" y="3716280"/>
              <a:ext cx="104760" cy="49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959120" y="4675320"/>
              <a:ext cx="39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959120" y="4905360"/>
              <a:ext cx="45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959120" y="5189400"/>
              <a:ext cx="45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959120" y="5464080"/>
              <a:ext cx="45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959120" y="5735520"/>
              <a:ext cx="60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"/>
          <p:cNvGrpSpPr/>
          <p:nvPr/>
        </p:nvGrpSpPr>
        <p:grpSpPr>
          <a:xfrm>
            <a:off x="0" y="3433680"/>
            <a:ext cx="4581360" cy="3424320"/>
            <a:chOff x="0" y="3433680"/>
            <a:chExt cx="4581360" cy="3424320"/>
          </a:xfrm>
        </p:grpSpPr>
        <p:sp>
          <p:nvSpPr>
            <p:cNvPr id="856" name=""/>
            <p:cNvSpPr/>
            <p:nvPr/>
          </p:nvSpPr>
          <p:spPr>
            <a:xfrm>
              <a:off x="0" y="3433680"/>
              <a:ext cx="4581360" cy="342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014920" y="6570720"/>
              <a:ext cx="997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ys Receiv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16200000">
              <a:off x="-740880" y="4946040"/>
              <a:ext cx="199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orking Capital Required, $000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0" y="3433680"/>
              <a:ext cx="4581360" cy="3424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3000" y="6186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70040" y="3870360"/>
              <a:ext cx="3438360" cy="24033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241280" y="5319720"/>
              <a:ext cx="627120" cy="9540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5e6c75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5120" y="627372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35120" y="58770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5120" y="54738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35120" y="507672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35120" y="467028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35120" y="42768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35120" y="3870360"/>
              <a:ext cx="349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70040" y="6273720"/>
              <a:ext cx="32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4208400" y="6273720"/>
              <a:ext cx="180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03000" y="5800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29920" y="539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29920" y="5000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29920" y="4594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9920" y="4200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29920" y="3794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355760" y="6330960"/>
              <a:ext cx="38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978200" y="6330960"/>
              <a:ext cx="384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602080" y="6330960"/>
              <a:ext cx="384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200400" y="6330960"/>
              <a:ext cx="425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868400" y="4913280"/>
              <a:ext cx="627120" cy="13604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495520" y="4518000"/>
              <a:ext cx="615960" cy="17557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5e6c75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11480" y="4111560"/>
              <a:ext cx="627120" cy="21621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"/>
          <p:cNvGrpSpPr/>
          <p:nvPr/>
        </p:nvGrpSpPr>
        <p:grpSpPr>
          <a:xfrm>
            <a:off x="163440" y="709560"/>
            <a:ext cx="8896320" cy="5416560"/>
            <a:chOff x="163440" y="709560"/>
            <a:chExt cx="8896320" cy="5416560"/>
          </a:xfrm>
        </p:grpSpPr>
        <p:sp>
          <p:nvSpPr>
            <p:cNvPr id="886" name=""/>
            <p:cNvSpPr/>
            <p:nvPr/>
          </p:nvSpPr>
          <p:spPr>
            <a:xfrm>
              <a:off x="163440" y="709560"/>
              <a:ext cx="8896320" cy="5416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01560" y="1503360"/>
              <a:ext cx="812880" cy="40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01560" y="1566720"/>
              <a:ext cx="71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03360" y="2212920"/>
              <a:ext cx="812520" cy="432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01560" y="2251080"/>
              <a:ext cx="93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erating Cos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19240" y="1782720"/>
              <a:ext cx="812880" cy="432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19240" y="1806480"/>
              <a:ext cx="858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erating Prof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450800" y="1465200"/>
              <a:ext cx="24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438200" y="2147760"/>
              <a:ext cx="46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19240" y="5000760"/>
              <a:ext cx="812880" cy="431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19240" y="5019840"/>
              <a:ext cx="693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tal Ass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408560" y="4356000"/>
              <a:ext cx="812880" cy="432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408560" y="4371840"/>
              <a:ext cx="72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tal Liabil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9" name=""/>
            <p:cNvCxnSpPr>
              <a:stCxn id="900" idx="3"/>
              <a:endCxn id="901" idx="3"/>
            </p:cNvCxnSpPr>
            <p:nvPr/>
          </p:nvCxnSpPr>
          <p:spPr>
            <a:xfrm flipH="1" flipV="1">
              <a:off x="2845800" y="2099520"/>
              <a:ext cx="5400" cy="3034440"/>
            </a:xfrm>
            <a:prstGeom prst="bentConnector3">
              <a:avLst>
                <a:gd name="adj1" fmla="val -480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02" name=""/>
            <p:cNvSpPr/>
            <p:nvPr/>
          </p:nvSpPr>
          <p:spPr>
            <a:xfrm flipH="1">
              <a:off x="3083040" y="3821040"/>
              <a:ext cx="46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546360" y="3591000"/>
              <a:ext cx="922320" cy="431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548160" y="3630600"/>
              <a:ext cx="939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turn on Ass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5" name=""/>
            <p:cNvCxnSpPr>
              <a:stCxn id="906" idx="3"/>
              <a:endCxn id="897" idx="3"/>
            </p:cNvCxnSpPr>
            <p:nvPr/>
          </p:nvCxnSpPr>
          <p:spPr>
            <a:xfrm flipV="1">
              <a:off x="2851200" y="4571280"/>
              <a:ext cx="2370960" cy="765720"/>
            </a:xfrm>
            <a:prstGeom prst="bentConnector3">
              <a:avLst>
                <a:gd name="adj1" fmla="val 109643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07" name=""/>
            <p:cNvSpPr/>
            <p:nvPr/>
          </p:nvSpPr>
          <p:spPr>
            <a:xfrm>
              <a:off x="5132520" y="5087880"/>
              <a:ext cx="24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213520" y="4335480"/>
              <a:ext cx="46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92880" y="3519360"/>
              <a:ext cx="46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73520" y="2270160"/>
              <a:ext cx="812880" cy="431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80000" y="2367000"/>
              <a:ext cx="70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786120" y="2867040"/>
              <a:ext cx="812880" cy="431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780000" y="2884320"/>
              <a:ext cx="790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ther Inco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4" name=""/>
            <p:cNvCxnSpPr>
              <a:stCxn id="915" idx="1"/>
              <a:endCxn id="910" idx="3"/>
            </p:cNvCxnSpPr>
            <p:nvPr/>
          </p:nvCxnSpPr>
          <p:spPr>
            <a:xfrm rot="10800000">
              <a:off x="4585680" y="2485440"/>
              <a:ext cx="788040" cy="21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16" name=""/>
            <p:cNvSpPr/>
            <p:nvPr/>
          </p:nvSpPr>
          <p:spPr>
            <a:xfrm>
              <a:off x="3773520" y="2820960"/>
              <a:ext cx="330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7" name=""/>
            <p:cNvCxnSpPr>
              <a:stCxn id="912" idx="1"/>
              <a:endCxn id="910" idx="1"/>
            </p:cNvCxnSpPr>
            <p:nvPr/>
          </p:nvCxnSpPr>
          <p:spPr>
            <a:xfrm rot="10800000">
              <a:off x="3772800" y="2485440"/>
              <a:ext cx="13320" cy="597600"/>
            </a:xfrm>
            <a:prstGeom prst="bentConnector3">
              <a:avLst>
                <a:gd name="adj1" fmla="val 190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18" name=""/>
            <p:cNvCxnSpPr>
              <a:stCxn id="910" idx="1"/>
              <a:endCxn id="919" idx="1"/>
            </p:cNvCxnSpPr>
            <p:nvPr/>
          </p:nvCxnSpPr>
          <p:spPr>
            <a:xfrm flipH="1" rot="10800000">
              <a:off x="3772440" y="1886760"/>
              <a:ext cx="13320" cy="599400"/>
            </a:xfrm>
            <a:prstGeom prst="bentConnector3">
              <a:avLst>
                <a:gd name="adj1" fmla="val -180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20" name=""/>
            <p:cNvSpPr/>
            <p:nvPr/>
          </p:nvSpPr>
          <p:spPr>
            <a:xfrm>
              <a:off x="3519360" y="2268360"/>
              <a:ext cx="46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519360" y="1625760"/>
              <a:ext cx="46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519360" y="2843280"/>
              <a:ext cx="46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373720" y="2271600"/>
              <a:ext cx="812880" cy="432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397480" y="2306520"/>
              <a:ext cx="701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 Inco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4" name=""/>
            <p:cNvCxnSpPr>
              <a:stCxn id="925" idx="3"/>
              <a:endCxn id="915" idx="3"/>
            </p:cNvCxnSpPr>
            <p:nvPr/>
          </p:nvCxnSpPr>
          <p:spPr>
            <a:xfrm flipH="1" flipV="1">
              <a:off x="6186240" y="2486880"/>
              <a:ext cx="870480" cy="2421720"/>
            </a:xfrm>
            <a:prstGeom prst="bentConnector3">
              <a:avLst>
                <a:gd name="adj1" fmla="val -26272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26" name=""/>
            <p:cNvSpPr/>
            <p:nvPr/>
          </p:nvSpPr>
          <p:spPr>
            <a:xfrm flipH="1">
              <a:off x="7311600" y="3814920"/>
              <a:ext cx="27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578720" y="3603600"/>
              <a:ext cx="1003320" cy="432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574040" y="361476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turn on Equ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052800" y="3540240"/>
              <a:ext cx="46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4960" y="5600880"/>
              <a:ext cx="8128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22360" y="4191120"/>
              <a:ext cx="8128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34960" y="3429000"/>
              <a:ext cx="8128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34960" y="1193760"/>
              <a:ext cx="8128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9640" y="5321160"/>
              <a:ext cx="1519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alance She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9640" y="1176480"/>
              <a:ext cx="15192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come State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6" name=""/>
            <p:cNvCxnSpPr>
              <a:stCxn id="889" idx="3"/>
              <a:endCxn id="887" idx="3"/>
            </p:cNvCxnSpPr>
            <p:nvPr/>
          </p:nvCxnSpPr>
          <p:spPr>
            <a:xfrm flipH="1" flipV="1">
              <a:off x="1414080" y="1705680"/>
              <a:ext cx="2160" cy="723240"/>
            </a:xfrm>
            <a:prstGeom prst="bentConnector3">
              <a:avLst>
                <a:gd name="adj1" fmla="val -1440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37" name=""/>
            <p:cNvSpPr/>
            <p:nvPr/>
          </p:nvSpPr>
          <p:spPr>
            <a:xfrm flipH="1">
              <a:off x="1650600" y="1994040"/>
              <a:ext cx="36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8" name=""/>
            <p:cNvCxnSpPr>
              <a:stCxn id="939" idx="0"/>
            </p:cNvCxnSpPr>
            <p:nvPr/>
          </p:nvCxnSpPr>
          <p:spPr>
            <a:xfrm flipV="1">
              <a:off x="2836440" y="1839240"/>
              <a:ext cx="956520" cy="3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39" name=""/>
            <p:cNvSpPr/>
            <p:nvPr/>
          </p:nvSpPr>
          <p:spPr>
            <a:xfrm>
              <a:off x="2754360" y="1843200"/>
              <a:ext cx="16344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700360" y="5237280"/>
              <a:ext cx="150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695680" y="2000160"/>
              <a:ext cx="150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700360" y="5033880"/>
              <a:ext cx="150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0" name=""/>
            <p:cNvCxnSpPr>
              <a:stCxn id="912" idx="3"/>
              <a:endCxn id="919" idx="3"/>
            </p:cNvCxnSpPr>
            <p:nvPr/>
          </p:nvCxnSpPr>
          <p:spPr>
            <a:xfrm flipV="1">
              <a:off x="4599000" y="1886760"/>
              <a:ext cx="2160" cy="1196280"/>
            </a:xfrm>
            <a:prstGeom prst="bentConnector3">
              <a:avLst>
                <a:gd name="adj1" fmla="val 1440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25" name=""/>
            <p:cNvSpPr/>
            <p:nvPr/>
          </p:nvSpPr>
          <p:spPr>
            <a:xfrm>
              <a:off x="5811840" y="4692600"/>
              <a:ext cx="1244520" cy="432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803920" y="4781520"/>
              <a:ext cx="125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wner’s Equ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2" name=""/>
            <p:cNvCxnSpPr>
              <a:stCxn id="925" idx="1"/>
            </p:cNvCxnSpPr>
            <p:nvPr/>
          </p:nvCxnSpPr>
          <p:spPr>
            <a:xfrm flipH="1">
              <a:off x="5444280" y="4908240"/>
              <a:ext cx="367560" cy="5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43" name=""/>
            <p:cNvSpPr/>
            <p:nvPr/>
          </p:nvSpPr>
          <p:spPr>
            <a:xfrm>
              <a:off x="3792600" y="1682640"/>
              <a:ext cx="163440" cy="29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786120" y="1671480"/>
              <a:ext cx="812880" cy="432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773520" y="1687680"/>
              <a:ext cx="703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come Tax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87280" y="1692360"/>
            <a:ext cx="8583840" cy="3262320"/>
            <a:chOff x="287280" y="1692360"/>
            <a:chExt cx="8583840" cy="3262320"/>
          </a:xfrm>
        </p:grpSpPr>
        <p:sp>
          <p:nvSpPr>
            <p:cNvPr id="92" name=""/>
            <p:cNvSpPr/>
            <p:nvPr/>
          </p:nvSpPr>
          <p:spPr>
            <a:xfrm>
              <a:off x="287280" y="1692360"/>
              <a:ext cx="8583840" cy="326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957240" y="4014720"/>
              <a:ext cx="1676160" cy="379440"/>
              <a:chOff x="957240" y="4014720"/>
              <a:chExt cx="1676160" cy="37944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957240" y="4246560"/>
                <a:ext cx="1676160" cy="147600"/>
                <a:chOff x="957240" y="4246560"/>
                <a:chExt cx="1676160" cy="14760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957240" y="4305240"/>
                  <a:ext cx="15336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487600" y="4246560"/>
                  <a:ext cx="145800" cy="147600"/>
                </a:xfrm>
                <a:custGeom>
                  <a:avLst/>
                  <a:gdLst/>
                  <a:ahLst/>
                  <a:rect l="l" t="t" r="r" b="b"/>
                  <a:pathLst>
                    <a:path w="92" h="93">
                      <a:moveTo>
                        <a:pt x="0" y="93"/>
                      </a:moveTo>
                      <a:lnTo>
                        <a:pt x="92" y="46"/>
                      </a:lnTo>
                      <a:lnTo>
                        <a:pt x="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>
                <a:off x="1109520" y="4014720"/>
                <a:ext cx="114444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304280" y="4067280"/>
                <a:ext cx="753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ear o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3755880" y="4014720"/>
              <a:ext cx="1676160" cy="379440"/>
              <a:chOff x="3755880" y="4014720"/>
              <a:chExt cx="1676160" cy="37944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3755880" y="4246560"/>
                <a:ext cx="1676160" cy="147600"/>
                <a:chOff x="3755880" y="4246560"/>
                <a:chExt cx="1676160" cy="1476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3755880" y="4305240"/>
                  <a:ext cx="15336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286240" y="4246560"/>
                  <a:ext cx="145800" cy="147600"/>
                </a:xfrm>
                <a:custGeom>
                  <a:avLst/>
                  <a:gdLst/>
                  <a:ahLst/>
                  <a:rect l="l" t="t" r="r" b="b"/>
                  <a:pathLst>
                    <a:path w="92" h="93">
                      <a:moveTo>
                        <a:pt x="0" y="93"/>
                      </a:moveTo>
                      <a:lnTo>
                        <a:pt x="92" y="46"/>
                      </a:lnTo>
                      <a:lnTo>
                        <a:pt x="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3908160" y="4014720"/>
                <a:ext cx="114444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06160" y="4067280"/>
                <a:ext cx="744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ear tw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6524640" y="4014720"/>
              <a:ext cx="1676160" cy="379440"/>
              <a:chOff x="6524640" y="4014720"/>
              <a:chExt cx="1676160" cy="37944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6524640" y="4246560"/>
                <a:ext cx="1676160" cy="147600"/>
                <a:chOff x="6524640" y="4246560"/>
                <a:chExt cx="1676160" cy="1476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524640" y="4305240"/>
                  <a:ext cx="15336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055000" y="4246560"/>
                  <a:ext cx="145800" cy="147600"/>
                </a:xfrm>
                <a:custGeom>
                  <a:avLst/>
                  <a:gdLst/>
                  <a:ahLst/>
                  <a:rect l="l" t="t" r="r" b="b"/>
                  <a:pathLst>
                    <a:path w="92" h="93">
                      <a:moveTo>
                        <a:pt x="0" y="93"/>
                      </a:moveTo>
                      <a:lnTo>
                        <a:pt x="92" y="46"/>
                      </a:lnTo>
                      <a:lnTo>
                        <a:pt x="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6676920" y="4014720"/>
                <a:ext cx="114444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810480" y="4067280"/>
                <a:ext cx="874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ear thre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3532320" y="2460600"/>
              <a:ext cx="144936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46360" y="3213000"/>
              <a:ext cx="1373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38520" y="3271680"/>
              <a:ext cx="105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sh Flow fo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38520" y="345456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113440" y="2416320"/>
              <a:ext cx="609480" cy="1295280"/>
              <a:chOff x="5113440" y="2416320"/>
              <a:chExt cx="609480" cy="1295280"/>
            </a:xfrm>
          </p:grpSpPr>
          <p:sp>
            <p:nvSpPr>
              <p:cNvPr id="116" name=""/>
              <p:cNvSpPr/>
              <p:nvPr/>
            </p:nvSpPr>
            <p:spPr>
              <a:xfrm>
                <a:off x="5113440" y="2416320"/>
                <a:ext cx="609480" cy="12952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6200000">
                <a:off x="4785480" y="2903400"/>
                <a:ext cx="1089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alance Shee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6200000">
                <a:off x="5001840" y="2939040"/>
                <a:ext cx="1021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s at year 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5113440" y="2416320"/>
              <a:ext cx="609480" cy="1295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785480" y="2903760"/>
              <a:ext cx="1089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lance She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5001840" y="2939760"/>
              <a:ext cx="102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 at year 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13440" y="2416320"/>
              <a:ext cx="609480" cy="1295280"/>
            </a:xfrm>
            <a:prstGeom prst="rect">
              <a:avLst/>
            </a:prstGeom>
            <a:gradFill rotWithShape="0">
              <a:gsLst>
                <a:gs pos="0">
                  <a:srgbClr val="b1d8ff"/>
                </a:gs>
                <a:gs pos="100000">
                  <a:srgbClr val="516375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4785480" y="2903760"/>
              <a:ext cx="1089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lance She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5001840" y="2939760"/>
              <a:ext cx="102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 at year 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57440" y="2417760"/>
              <a:ext cx="1452600" cy="5335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5e6c75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33040" y="2473200"/>
              <a:ext cx="1358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come Statemen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48160" y="2689200"/>
              <a:ext cx="71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 peri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57440" y="3184560"/>
              <a:ext cx="1438560" cy="5335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00360" y="3049560"/>
              <a:ext cx="13734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38520" y="3271680"/>
              <a:ext cx="105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sh Flow fo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38520" y="345456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03960" y="2454120"/>
              <a:ext cx="144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18360" y="3206880"/>
              <a:ext cx="13730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10160" y="3265560"/>
              <a:ext cx="105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sh Flow fo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10160" y="344808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7885080" y="2409840"/>
              <a:ext cx="609480" cy="1295280"/>
              <a:chOff x="7885080" y="2409840"/>
              <a:chExt cx="609480" cy="1295280"/>
            </a:xfrm>
          </p:grpSpPr>
          <p:sp>
            <p:nvSpPr>
              <p:cNvPr id="137" name=""/>
              <p:cNvSpPr/>
              <p:nvPr/>
            </p:nvSpPr>
            <p:spPr>
              <a:xfrm>
                <a:off x="7885080" y="2409840"/>
                <a:ext cx="609480" cy="12952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6200000">
                <a:off x="7557120" y="2896920"/>
                <a:ext cx="1089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alance Shee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6200000">
                <a:off x="7773480" y="2932560"/>
                <a:ext cx="1021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s at year 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7885080" y="2409840"/>
              <a:ext cx="609480" cy="1295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6200000">
              <a:off x="7557120" y="2897280"/>
              <a:ext cx="1089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lance She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6200000">
              <a:off x="7773840" y="2933640"/>
              <a:ext cx="102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 at year 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85080" y="2409840"/>
              <a:ext cx="609480" cy="1295280"/>
            </a:xfrm>
            <a:prstGeom prst="rect">
              <a:avLst/>
            </a:prstGeom>
            <a:gradFill rotWithShape="0">
              <a:gsLst>
                <a:gs pos="0">
                  <a:srgbClr val="b1d8ff"/>
                </a:gs>
                <a:gs pos="100000">
                  <a:srgbClr val="516375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7557120" y="2897280"/>
              <a:ext cx="1089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lance She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7773840" y="2933640"/>
              <a:ext cx="102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 at year 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29440" y="2411280"/>
              <a:ext cx="1452600" cy="5335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5e6c75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05040" y="2467080"/>
              <a:ext cx="1358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come Statemen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19800" y="2682720"/>
              <a:ext cx="71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 peri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29440" y="3178080"/>
              <a:ext cx="1438200" cy="5335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72360" y="3043080"/>
              <a:ext cx="137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10160" y="3265560"/>
              <a:ext cx="105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sh Flow fo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10160" y="344808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6560" y="2454120"/>
              <a:ext cx="144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0960" y="3206880"/>
              <a:ext cx="13730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3120" y="3265560"/>
              <a:ext cx="105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sh Flow fo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3120" y="344808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317680" y="2409840"/>
              <a:ext cx="609840" cy="1295280"/>
              <a:chOff x="2317680" y="2409840"/>
              <a:chExt cx="609840" cy="1295280"/>
            </a:xfrm>
          </p:grpSpPr>
          <p:sp>
            <p:nvSpPr>
              <p:cNvPr id="158" name=""/>
              <p:cNvSpPr/>
              <p:nvPr/>
            </p:nvSpPr>
            <p:spPr>
              <a:xfrm>
                <a:off x="2317680" y="2409840"/>
                <a:ext cx="609840" cy="12952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6200000">
                <a:off x="1990080" y="2896920"/>
                <a:ext cx="1089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alance Shee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6200000">
                <a:off x="2206440" y="2932560"/>
                <a:ext cx="1021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s at year 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2317680" y="2409840"/>
              <a:ext cx="609840" cy="1295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1990080" y="2897280"/>
              <a:ext cx="1089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lance She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2206440" y="2933640"/>
              <a:ext cx="102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 at year 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17680" y="2409840"/>
              <a:ext cx="609840" cy="1295280"/>
            </a:xfrm>
            <a:prstGeom prst="rect">
              <a:avLst/>
            </a:prstGeom>
            <a:gradFill rotWithShape="0">
              <a:gsLst>
                <a:gs pos="0">
                  <a:srgbClr val="b1d8ff"/>
                </a:gs>
                <a:gs pos="100000">
                  <a:srgbClr val="516375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1990080" y="2897280"/>
              <a:ext cx="1089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lance She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2206440" y="2933640"/>
              <a:ext cx="102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 at year 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2040" y="2411280"/>
              <a:ext cx="1452600" cy="5335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5e6c75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7640" y="2467080"/>
              <a:ext cx="1358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come Statemen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2400" y="2682720"/>
              <a:ext cx="71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or peri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2040" y="3178080"/>
              <a:ext cx="1438200" cy="5335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4960" y="3043080"/>
              <a:ext cx="137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3120" y="3265560"/>
              <a:ext cx="105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sh Flow fo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43120" y="344808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506520" y="865080"/>
            <a:ext cx="8307360" cy="5759640"/>
            <a:chOff x="506520" y="865080"/>
            <a:chExt cx="8307360" cy="5759640"/>
          </a:xfrm>
        </p:grpSpPr>
        <p:sp>
          <p:nvSpPr>
            <p:cNvPr id="175" name=""/>
            <p:cNvSpPr/>
            <p:nvPr/>
          </p:nvSpPr>
          <p:spPr>
            <a:xfrm>
              <a:off x="506520" y="865080"/>
              <a:ext cx="8307360" cy="5759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00680" y="1494000"/>
              <a:ext cx="1441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71720" y="3116160"/>
              <a:ext cx="2162160" cy="10335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8da4b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27280" y="5046840"/>
              <a:ext cx="852480" cy="712440"/>
            </a:xfrm>
            <a:prstGeom prst="rect">
              <a:avLst/>
            </a:prstGeom>
            <a:gradFill rotWithShape="0">
              <a:gsLst>
                <a:gs pos="0">
                  <a:srgbClr val="95dcff"/>
                </a:gs>
                <a:gs pos="100000">
                  <a:srgbClr val="4e95b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10000" y="5133960"/>
              <a:ext cx="890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pital Source or Sin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96920" y="5411880"/>
              <a:ext cx="62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7520" y="4789440"/>
              <a:ext cx="16002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0080" indent="-100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pital provisio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hares/common st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ferred shares/st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bt (bonds, loan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0080" indent="-100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ther capital inp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2" name=""/>
            <p:cNvCxnSpPr>
              <a:stCxn id="178" idx="0"/>
              <a:endCxn id="177" idx="2"/>
            </p:cNvCxnSpPr>
            <p:nvPr/>
          </p:nvCxnSpPr>
          <p:spPr>
            <a:xfrm flipH="1" flipV="1">
              <a:off x="3052440" y="4149360"/>
              <a:ext cx="2160" cy="897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3" name=""/>
            <p:cNvSpPr/>
            <p:nvPr/>
          </p:nvSpPr>
          <p:spPr>
            <a:xfrm>
              <a:off x="2052720" y="3138480"/>
              <a:ext cx="2006640" cy="89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tal Capital investment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perty plant and equip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orking capital for pro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85840" y="1773360"/>
              <a:ext cx="8175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les: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89320" y="1677960"/>
              <a:ext cx="1326960" cy="614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b4b4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44760" y="1743120"/>
              <a:ext cx="1165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ons for pro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7" name=""/>
            <p:cNvCxnSpPr>
              <a:stCxn id="177" idx="0"/>
              <a:endCxn id="185" idx="2"/>
            </p:cNvCxnSpPr>
            <p:nvPr/>
          </p:nvCxnSpPr>
          <p:spPr>
            <a:xfrm flipV="1">
              <a:off x="3052440" y="2292120"/>
              <a:ext cx="1080" cy="82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8" name=""/>
            <p:cNvSpPr/>
            <p:nvPr/>
          </p:nvSpPr>
          <p:spPr>
            <a:xfrm flipV="1">
              <a:off x="3057480" y="1300320"/>
              <a:ext cx="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54080" y="1987560"/>
              <a:ext cx="41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65440" y="1069920"/>
              <a:ext cx="9223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sts: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62600" y="3722760"/>
              <a:ext cx="14400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preciation: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d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6600" y="1514520"/>
              <a:ext cx="2506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– c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– d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– i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Taxable inco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97840" y="1019160"/>
              <a:ext cx="14634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ax: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t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(% of profi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91120" y="4824360"/>
              <a:ext cx="193536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cash flow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1-T)(s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– c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– d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 i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) +d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42000" y="2523960"/>
              <a:ext cx="169380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fit after tax     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= (1-T)(s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– c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- d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 i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51200" y="4959360"/>
              <a:ext cx="1698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 cash flow from the project to capital s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78" idx="2"/>
            </p:cNvCxnSpPr>
            <p:nvPr/>
          </p:nvCxnSpPr>
          <p:spPr>
            <a:xfrm flipH="1" rot="16200000">
              <a:off x="3242160" y="5570280"/>
              <a:ext cx="377280" cy="7549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8" name=""/>
            <p:cNvSpPr/>
            <p:nvPr/>
          </p:nvSpPr>
          <p:spPr>
            <a:xfrm>
              <a:off x="4005360" y="5834160"/>
              <a:ext cx="235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hareholders’ dividen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ayment of principal on deb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ther invest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50320" y="390384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03760" y="17128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548320" y="13014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13400" y="1020600"/>
              <a:ext cx="17780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erest: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i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(% of deb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28680" y="5021280"/>
              <a:ext cx="27324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63920" y="4470480"/>
              <a:ext cx="29196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40160" y="2557440"/>
              <a:ext cx="31428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65560" y="1589040"/>
              <a:ext cx="31464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7" name=""/>
            <p:cNvCxnSpPr>
              <a:stCxn id="208" idx="3"/>
              <a:endCxn id="209" idx="1"/>
            </p:cNvCxnSpPr>
            <p:nvPr/>
          </p:nvCxnSpPr>
          <p:spPr>
            <a:xfrm>
              <a:off x="4871880" y="1985760"/>
              <a:ext cx="31694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0" name=""/>
            <p:cNvSpPr/>
            <p:nvPr/>
          </p:nvSpPr>
          <p:spPr>
            <a:xfrm>
              <a:off x="7550280" y="1587600"/>
              <a:ext cx="31428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51720" y="3459240"/>
              <a:ext cx="31428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48320" y="5016600"/>
              <a:ext cx="31428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40600" y="1836720"/>
              <a:ext cx="32544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43840" y="3892680"/>
              <a:ext cx="325440" cy="29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4" name=""/>
            <p:cNvCxnSpPr>
              <a:stCxn id="213" idx="1"/>
            </p:cNvCxnSpPr>
            <p:nvPr/>
          </p:nvCxnSpPr>
          <p:spPr>
            <a:xfrm flipH="1">
              <a:off x="3499560" y="4041720"/>
              <a:ext cx="4544280" cy="1394640"/>
            </a:xfrm>
            <a:prstGeom prst="bentConnector3">
              <a:avLst>
                <a:gd name="adj1" fmla="val -10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5" name=""/>
            <p:cNvSpPr/>
            <p:nvPr/>
          </p:nvSpPr>
          <p:spPr>
            <a:xfrm flipV="1">
              <a:off x="8043840" y="13107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6" name=""/>
            <p:cNvCxnSpPr>
              <a:stCxn id="215" idx="0"/>
              <a:endCxn id="213" idx="1"/>
            </p:cNvCxnSpPr>
            <p:nvPr/>
          </p:nvCxnSpPr>
          <p:spPr>
            <a:xfrm>
              <a:off x="8043480" y="1996920"/>
              <a:ext cx="1080" cy="2045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8" name=""/>
            <p:cNvSpPr/>
            <p:nvPr/>
          </p:nvSpPr>
          <p:spPr>
            <a:xfrm>
              <a:off x="4546440" y="1836720"/>
              <a:ext cx="32544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7" name=""/>
            <p:cNvCxnSpPr>
              <a:stCxn id="185" idx="3"/>
              <a:endCxn id="208" idx="3"/>
            </p:cNvCxnSpPr>
            <p:nvPr/>
          </p:nvCxnSpPr>
          <p:spPr>
            <a:xfrm>
              <a:off x="3716280" y="1985760"/>
              <a:ext cx="11563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732120" y="1704960"/>
              <a:ext cx="13654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ross Profit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= s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- c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208" idx="3"/>
              <a:endCxn id="213" idx="1"/>
            </p:cNvCxnSpPr>
            <p:nvPr/>
          </p:nvCxnSpPr>
          <p:spPr>
            <a:xfrm flipH="1" flipV="1" rot="10800000">
              <a:off x="4871520" y="1985760"/>
              <a:ext cx="3172680" cy="2056320"/>
            </a:xfrm>
            <a:prstGeom prst="bentConnector3">
              <a:avLst>
                <a:gd name="adj1" fmla="val -44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506520" y="865080"/>
            <a:ext cx="8307360" cy="5759640"/>
            <a:chOff x="506520" y="865080"/>
            <a:chExt cx="8307360" cy="5759640"/>
          </a:xfrm>
        </p:grpSpPr>
        <p:grpSp>
          <p:nvGrpSpPr>
            <p:cNvPr id="221" name=""/>
            <p:cNvGrpSpPr/>
            <p:nvPr/>
          </p:nvGrpSpPr>
          <p:grpSpPr>
            <a:xfrm>
              <a:off x="506520" y="865080"/>
              <a:ext cx="8307360" cy="5759640"/>
              <a:chOff x="506520" y="865080"/>
              <a:chExt cx="8307360" cy="5759640"/>
            </a:xfrm>
          </p:grpSpPr>
          <p:sp>
            <p:nvSpPr>
              <p:cNvPr id="222" name=""/>
              <p:cNvSpPr/>
              <p:nvPr/>
            </p:nvSpPr>
            <p:spPr>
              <a:xfrm>
                <a:off x="506520" y="865080"/>
                <a:ext cx="8307360" cy="575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800680" y="1494000"/>
                <a:ext cx="144144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971720" y="3116160"/>
                <a:ext cx="2162160" cy="103356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8da4b1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627280" y="5046840"/>
                <a:ext cx="852480" cy="712440"/>
              </a:xfrm>
              <a:prstGeom prst="rect">
                <a:avLst/>
              </a:prstGeom>
              <a:gradFill rotWithShape="0">
                <a:gsLst>
                  <a:gs pos="0">
                    <a:srgbClr val="95dcff"/>
                  </a:gs>
                  <a:gs pos="100000">
                    <a:srgbClr val="4e95b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610000" y="5133960"/>
                <a:ext cx="890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pital Source or Sin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996920" y="5411880"/>
                <a:ext cx="62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87520" y="4789440"/>
                <a:ext cx="1600200" cy="8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0080" indent="-100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apital provisio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00080" indent="-1000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hares/common sto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00080" indent="-1000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eferred shares/sto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00080" indent="-1000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bt (bonds, loan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00080" indent="-1000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ther capital inp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9" name=""/>
              <p:cNvCxnSpPr>
                <a:stCxn id="225" idx="0"/>
                <a:endCxn id="224" idx="2"/>
              </p:cNvCxnSpPr>
              <p:nvPr/>
            </p:nvCxnSpPr>
            <p:spPr>
              <a:xfrm flipH="1" flipV="1">
                <a:off x="3052440" y="4149360"/>
                <a:ext cx="2160" cy="8978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30" name=""/>
              <p:cNvSpPr/>
              <p:nvPr/>
            </p:nvSpPr>
            <p:spPr>
              <a:xfrm>
                <a:off x="2052720" y="3138480"/>
                <a:ext cx="2006640" cy="89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87200" indent="-187200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otal Capital investment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87200" indent="-187200">
                  <a:lnSpc>
                    <a:spcPct val="100000"/>
                  </a:lnSpc>
                  <a:spcBef>
                    <a:spcPts val="624"/>
                  </a:spcBef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perty plant and equipm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87200" indent="-187200">
                  <a:lnSpc>
                    <a:spcPct val="100000"/>
                  </a:lnSpc>
                  <a:spcBef>
                    <a:spcPts val="624"/>
                  </a:spcBef>
                  <a:buClr>
                    <a:srgbClr val="000000"/>
                  </a:buClr>
                  <a:buFont typeface="Arial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orking capital for projec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185840" y="1773360"/>
                <a:ext cx="81756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ales: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389320" y="1677960"/>
                <a:ext cx="1326960" cy="6145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b4b4e2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44760" y="1743120"/>
                <a:ext cx="1165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perations for pro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24" idx="0"/>
                <a:endCxn id="232" idx="2"/>
              </p:cNvCxnSpPr>
              <p:nvPr/>
            </p:nvCxnSpPr>
            <p:spPr>
              <a:xfrm flipV="1">
                <a:off x="3052440" y="2292120"/>
                <a:ext cx="1080" cy="8244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35" name=""/>
              <p:cNvSpPr/>
              <p:nvPr/>
            </p:nvSpPr>
            <p:spPr>
              <a:xfrm flipV="1">
                <a:off x="3057480" y="1300320"/>
                <a:ext cx="0" cy="35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54080" y="1987560"/>
                <a:ext cx="41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665440" y="1069920"/>
                <a:ext cx="9223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sts: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862600" y="3722760"/>
                <a:ext cx="144000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preciation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d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646600" y="1514520"/>
                <a:ext cx="250668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fi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– c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– d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– i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Taxable inco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197840" y="1019160"/>
                <a:ext cx="146340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Tax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(% of profit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991120" y="4824360"/>
                <a:ext cx="1935360" cy="49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et cash flow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1-T)(s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– c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– d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 i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 +d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642000" y="2523960"/>
                <a:ext cx="1693800" cy="41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rofit after tax              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= (1-T)(s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– c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- d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 i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1200" y="4959360"/>
                <a:ext cx="16988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 cash flow from the project to capital s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4" name=""/>
              <p:cNvCxnSpPr>
                <a:stCxn id="225" idx="2"/>
              </p:cNvCxnSpPr>
              <p:nvPr/>
            </p:nvCxnSpPr>
            <p:spPr>
              <a:xfrm flipH="1" rot="16200000">
                <a:off x="3242160" y="5570280"/>
                <a:ext cx="377280" cy="75492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5" name=""/>
              <p:cNvSpPr/>
              <p:nvPr/>
            </p:nvSpPr>
            <p:spPr>
              <a:xfrm>
                <a:off x="4005360" y="5834160"/>
                <a:ext cx="23540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hareholders’ dividend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payment of principal on deb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ther investmen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50320" y="3903840"/>
                <a:ext cx="380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703760" y="1712880"/>
                <a:ext cx="380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5548320" y="130140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13400" y="1020600"/>
                <a:ext cx="177804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nterest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i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(% of debt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128680" y="5021280"/>
                <a:ext cx="273240" cy="27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563920" y="4470480"/>
                <a:ext cx="291960" cy="27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540160" y="2557440"/>
                <a:ext cx="314280" cy="27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065560" y="1589040"/>
                <a:ext cx="314640" cy="27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4" name=""/>
              <p:cNvCxnSpPr>
                <a:stCxn id="255" idx="3"/>
                <a:endCxn id="256" idx="1"/>
              </p:cNvCxnSpPr>
              <p:nvPr/>
            </p:nvCxnSpPr>
            <p:spPr>
              <a:xfrm>
                <a:off x="4871880" y="1985760"/>
                <a:ext cx="31694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7" name=""/>
              <p:cNvSpPr/>
              <p:nvPr/>
            </p:nvSpPr>
            <p:spPr>
              <a:xfrm>
                <a:off x="7550280" y="1587600"/>
                <a:ext cx="314280" cy="27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551720" y="3459240"/>
                <a:ext cx="314280" cy="27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548320" y="5016600"/>
                <a:ext cx="314280" cy="27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040600" y="1836720"/>
                <a:ext cx="325440" cy="29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43840" y="3892680"/>
                <a:ext cx="325440" cy="29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1" name=""/>
              <p:cNvCxnSpPr>
                <a:stCxn id="260" idx="1"/>
              </p:cNvCxnSpPr>
              <p:nvPr/>
            </p:nvCxnSpPr>
            <p:spPr>
              <a:xfrm flipH="1">
                <a:off x="3499560" y="4041720"/>
                <a:ext cx="4544280" cy="1394640"/>
              </a:xfrm>
              <a:prstGeom prst="bentConnector3">
                <a:avLst>
                  <a:gd name="adj1" fmla="val -10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62" name=""/>
              <p:cNvSpPr/>
              <p:nvPr/>
            </p:nvSpPr>
            <p:spPr>
              <a:xfrm flipV="1">
                <a:off x="8043840" y="131076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3" name=""/>
              <p:cNvCxnSpPr>
                <a:stCxn id="262" idx="0"/>
                <a:endCxn id="260" idx="1"/>
              </p:cNvCxnSpPr>
              <p:nvPr/>
            </p:nvCxnSpPr>
            <p:spPr>
              <a:xfrm>
                <a:off x="8043480" y="1996920"/>
                <a:ext cx="1080" cy="2045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5" name=""/>
              <p:cNvSpPr/>
              <p:nvPr/>
            </p:nvSpPr>
            <p:spPr>
              <a:xfrm>
                <a:off x="4546440" y="1836720"/>
                <a:ext cx="325440" cy="29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4" name=""/>
              <p:cNvCxnSpPr>
                <a:stCxn id="232" idx="3"/>
                <a:endCxn id="255" idx="3"/>
              </p:cNvCxnSpPr>
              <p:nvPr/>
            </p:nvCxnSpPr>
            <p:spPr>
              <a:xfrm>
                <a:off x="3716280" y="1985760"/>
                <a:ext cx="11563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65" name=""/>
              <p:cNvSpPr/>
              <p:nvPr/>
            </p:nvSpPr>
            <p:spPr>
              <a:xfrm>
                <a:off x="3732120" y="1704960"/>
                <a:ext cx="13654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Gross Profit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= s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- c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6" name=""/>
              <p:cNvCxnSpPr>
                <a:stCxn id="255" idx="3"/>
                <a:endCxn id="260" idx="1"/>
              </p:cNvCxnSpPr>
              <p:nvPr/>
            </p:nvCxnSpPr>
            <p:spPr>
              <a:xfrm flipH="1" flipV="1" rot="10800000">
                <a:off x="4871520" y="1985760"/>
                <a:ext cx="3172680" cy="2056320"/>
              </a:xfrm>
              <a:prstGeom prst="bentConnector3">
                <a:avLst>
                  <a:gd name="adj1" fmla="val -44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67" name=""/>
            <p:cNvSpPr/>
            <p:nvPr/>
          </p:nvSpPr>
          <p:spPr>
            <a:xfrm rot="235800">
              <a:off x="2192040" y="1285920"/>
              <a:ext cx="6132600" cy="191592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21160" y="1577880"/>
              <a:ext cx="180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come Stat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22600" y="2963880"/>
              <a:ext cx="3112920" cy="31114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44880" y="4257720"/>
              <a:ext cx="242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alance She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1693800" y="0"/>
            <a:ext cx="4138560" cy="6681960"/>
            <a:chOff x="1693800" y="0"/>
            <a:chExt cx="4138560" cy="6681960"/>
          </a:xfrm>
        </p:grpSpPr>
        <p:grpSp>
          <p:nvGrpSpPr>
            <p:cNvPr id="272" name=""/>
            <p:cNvGrpSpPr/>
            <p:nvPr/>
          </p:nvGrpSpPr>
          <p:grpSpPr>
            <a:xfrm>
              <a:off x="1693800" y="0"/>
              <a:ext cx="4138560" cy="3278160"/>
              <a:chOff x="1693800" y="0"/>
              <a:chExt cx="4138560" cy="3278160"/>
            </a:xfrm>
          </p:grpSpPr>
          <p:sp>
            <p:nvSpPr>
              <p:cNvPr id="273" name=""/>
              <p:cNvSpPr/>
              <p:nvPr/>
            </p:nvSpPr>
            <p:spPr>
              <a:xfrm>
                <a:off x="4141800" y="2174760"/>
                <a:ext cx="55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41800" y="2790720"/>
                <a:ext cx="55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033880" y="2790720"/>
                <a:ext cx="5367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033880" y="2174760"/>
                <a:ext cx="5367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132080" y="1521000"/>
                <a:ext cx="6001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100480" y="1521000"/>
                <a:ext cx="584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132080" y="3267000"/>
                <a:ext cx="6001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100480" y="3267000"/>
                <a:ext cx="584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703520" y="9360"/>
                <a:ext cx="4120920" cy="324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181760" y="738360"/>
                <a:ext cx="46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31-Mar-0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118480" y="738360"/>
                <a:ext cx="468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Arial"/>
                  </a:rPr>
                  <a:t>31-Mar-0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2240" y="998640"/>
                <a:ext cx="42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Revenu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219920" y="1001880"/>
                <a:ext cx="453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,010,4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154840" y="1001880"/>
                <a:ext cx="453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,852,23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01880" y="1130400"/>
                <a:ext cx="634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ost of sal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19920" y="1133640"/>
                <a:ext cx="453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,204,69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154840" y="1133640"/>
                <a:ext cx="453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,177,38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00800" y="1262160"/>
                <a:ext cx="335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argi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219920" y="1266840"/>
                <a:ext cx="453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,805,70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154840" y="1266840"/>
                <a:ext cx="453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,674,84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902600" y="1393920"/>
                <a:ext cx="560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Overheads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68280" y="1525680"/>
                <a:ext cx="573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Distribu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308480" y="153036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06,21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243760" y="153036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10,85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170800" y="1658880"/>
                <a:ext cx="544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ales for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308480" y="166212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01,84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243760" y="166212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54,65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69360" y="1790640"/>
                <a:ext cx="482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08480" y="179388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96,45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243760" y="179388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65,26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69720" y="1922400"/>
                <a:ext cx="220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R&amp;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308480" y="192564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20,40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243760" y="192564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94,70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70080" y="2054160"/>
                <a:ext cx="386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Fin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308480" y="205740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98,68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43760" y="205740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94,35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68280" y="2185920"/>
                <a:ext cx="721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dministr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08480" y="219060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82,3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243760" y="219060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89,51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69720" y="2317680"/>
                <a:ext cx="6181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Depreci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308480" y="232236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81,00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243760" y="232236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75,65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901880" y="2451240"/>
                <a:ext cx="782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Total overhead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219920" y="2454120"/>
                <a:ext cx="453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,686,89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154840" y="2454120"/>
                <a:ext cx="453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,484,99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900800" y="2583000"/>
                <a:ext cx="1632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rofit before interest and tax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219920" y="2585880"/>
                <a:ext cx="453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118,8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154840" y="2585880"/>
                <a:ext cx="453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189,85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902600" y="2714760"/>
                <a:ext cx="776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Interest payab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366800" y="2717640"/>
                <a:ext cx="31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7,26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01720" y="2717640"/>
                <a:ext cx="31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5,28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901520" y="2846520"/>
                <a:ext cx="419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Tax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366800" y="2849400"/>
                <a:ext cx="31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2,48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301720" y="2849400"/>
                <a:ext cx="31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8,66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900800" y="2978280"/>
                <a:ext cx="459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Net Profi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08480" y="2982960"/>
                <a:ext cx="367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89,05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154840" y="2982960"/>
                <a:ext cx="453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025,90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12120" y="147600"/>
                <a:ext cx="149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Johnson and Associat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300040" y="469800"/>
                <a:ext cx="2818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rofit and Loss Account for the year ended 31 March 200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714320" y="0"/>
                <a:ext cx="41180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714320" y="3236760"/>
                <a:ext cx="4118040" cy="2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693800" y="0"/>
                <a:ext cx="20520" cy="32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811840" y="20520"/>
                <a:ext cx="20520" cy="3237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3710160" y="5477040"/>
              <a:ext cx="537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10160" y="5722920"/>
              <a:ext cx="5378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10160" y="6215040"/>
              <a:ext cx="5378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751280" y="5477040"/>
              <a:ext cx="536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751280" y="5722920"/>
              <a:ext cx="5367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51280" y="6215040"/>
              <a:ext cx="5367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05440" y="4944960"/>
              <a:ext cx="585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1480" y="4944960"/>
              <a:ext cx="5842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711440" y="3433680"/>
              <a:ext cx="4113000" cy="324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67720" y="4162320"/>
              <a:ext cx="46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31-Mar-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18480" y="4162320"/>
              <a:ext cx="46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31-Mar-0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92520" y="4422600"/>
              <a:ext cx="26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05520" y="442584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,010,4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154840" y="442584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,852,23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89640" y="4554360"/>
              <a:ext cx="925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st of goods sol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05520" y="455760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,204,6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54840" y="455760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,177,38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91440" y="4686480"/>
              <a:ext cx="584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ross prof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05520" y="469116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,805,7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54840" y="469116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,674,84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90360" y="4818240"/>
              <a:ext cx="1722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lling, General and Administrativ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52440" y="4950000"/>
              <a:ext cx="573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292640" y="49546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6,2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43760" y="49546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10,8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54960" y="5083200"/>
              <a:ext cx="544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ales fo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92640" y="50864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1,84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43760" y="50864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54,65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153520" y="5214960"/>
              <a:ext cx="48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92640" y="52182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96,4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43760" y="52182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65,26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53880" y="5346720"/>
              <a:ext cx="22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&amp;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92640" y="53499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20,4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243760" y="53499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4,7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52440" y="5478480"/>
              <a:ext cx="721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92640" y="54817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82,3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43760" y="54817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89,5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54240" y="5610240"/>
              <a:ext cx="386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in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92640" y="56149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8,68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43760" y="56149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4,3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53520" y="574200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05520" y="574668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,405,8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54840" y="574668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,209,34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92160" y="5875200"/>
              <a:ext cx="61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preci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92640" y="58784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81,0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43760" y="58784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75,6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89640" y="6006960"/>
              <a:ext cx="1107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perating Profit (EBIT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05520" y="601020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118,8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54840" y="601020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189,8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92880" y="6138720"/>
              <a:ext cx="77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est paya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52400" y="614196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7,26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01720" y="614196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5,28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92160" y="6270480"/>
              <a:ext cx="41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ax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52400" y="627372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2,48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01720" y="6273720"/>
              <a:ext cx="3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8,66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91440" y="6402240"/>
              <a:ext cx="550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et Inc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92640" y="64072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89,0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54840" y="640728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25,90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07440" y="3571920"/>
              <a:ext cx="149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ohnson and Associa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451600" y="3894120"/>
              <a:ext cx="2518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come Statement for the year ended 31 March 200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01720" y="3424320"/>
              <a:ext cx="20880" cy="325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11840" y="3444840"/>
              <a:ext cx="20520" cy="3237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22600" y="3424320"/>
              <a:ext cx="41097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22600" y="6661080"/>
              <a:ext cx="410976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81400" y="2986200"/>
              <a:ext cx="4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81400" y="313848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41880" y="3125880"/>
              <a:ext cx="48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81400" y="6550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22800" y="655956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32520" y="298296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81400" y="6407280"/>
              <a:ext cx="4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21360" y="640728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81400" y="2449440"/>
              <a:ext cx="4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32520" y="244800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81400" y="1260360"/>
              <a:ext cx="4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32520" y="126216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81400" y="4695840"/>
              <a:ext cx="4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126040" y="468648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81400" y="5735520"/>
              <a:ext cx="4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26040" y="574524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581040" y="299880"/>
            <a:ext cx="4923000" cy="6293160"/>
            <a:chOff x="581040" y="299880"/>
            <a:chExt cx="4923000" cy="6293160"/>
          </a:xfrm>
        </p:grpSpPr>
        <p:sp>
          <p:nvSpPr>
            <p:cNvPr id="416" name=""/>
            <p:cNvSpPr/>
            <p:nvPr/>
          </p:nvSpPr>
          <p:spPr>
            <a:xfrm>
              <a:off x="4594320" y="2733840"/>
              <a:ext cx="11160" cy="48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75440" y="2746440"/>
              <a:ext cx="12600" cy="47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94320" y="3519360"/>
              <a:ext cx="11160" cy="17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75440" y="3530520"/>
              <a:ext cx="12600" cy="16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3640" y="312840"/>
              <a:ext cx="4899240" cy="626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40240" y="117792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31-Mar-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653000" y="117792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31-Mar-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7640" y="1487520"/>
              <a:ext cx="75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xed ass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28720" y="1619280"/>
              <a:ext cx="7588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8360" y="1644480"/>
              <a:ext cx="67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ook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640" y="164952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,245,7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94400" y="164952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,178,9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28000" y="1801800"/>
              <a:ext cx="158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umulated depreci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1640" y="18064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425,69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94400" y="18064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144,69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28000" y="1959120"/>
              <a:ext cx="90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book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81640" y="196200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820,04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94400" y="196200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034,27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28000" y="2271600"/>
              <a:ext cx="739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vest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88200" y="22766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99520" y="22766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28720" y="2585880"/>
              <a:ext cx="88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rrent ass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28720" y="2717640"/>
              <a:ext cx="884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81640" y="259092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307,6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94400" y="259092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441,8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28360" y="2743200"/>
              <a:ext cx="41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oc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688200" y="274788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12,5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799520" y="274788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89,3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8720" y="290052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b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81640" y="290520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254,5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94400" y="290520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740,0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28720" y="305748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688200" y="30621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40,5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799520" y="30621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2,4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8720" y="3370320"/>
              <a:ext cx="1033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rrent liabil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28720" y="3502080"/>
              <a:ext cx="10335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640" y="337500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875,6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94400" y="337500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520,9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28720" y="3524400"/>
              <a:ext cx="56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redi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581640" y="35290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875,6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694400" y="35290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520,9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28000" y="3868560"/>
              <a:ext cx="116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working capit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81640" y="387360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432,0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99520" y="38736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20,87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27640" y="4179960"/>
              <a:ext cx="95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tal net ass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81640" y="41846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452,05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94400" y="41846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155,14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28720" y="4514760"/>
              <a:ext cx="1189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hareholders fun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28720" y="4646520"/>
              <a:ext cx="118728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28360" y="467208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58040" y="46767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69360" y="46767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28720" y="4829040"/>
              <a:ext cx="88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fit reserv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581640" y="48340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854,6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94400" y="48340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544,79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28000" y="4986360"/>
              <a:ext cx="120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valuation r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88200" y="49910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1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799520" y="49910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1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8360" y="5143680"/>
              <a:ext cx="152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tal Shareholders fun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581640" y="51483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676,6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694400" y="51483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366,79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8000" y="5457960"/>
              <a:ext cx="1204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ng-term liabil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8720" y="5587920"/>
              <a:ext cx="11952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8360" y="5614920"/>
              <a:ext cx="30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81640" y="56181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7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694400" y="56181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7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8720" y="5770440"/>
              <a:ext cx="2335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reditors due after more than one ye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758040" y="577548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5,4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69360" y="577548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8,35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28000" y="5927760"/>
              <a:ext cx="1500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tal long-term liabil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581640" y="59324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775,4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94400" y="59324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788,35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27640" y="6238800"/>
              <a:ext cx="1366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tal capital employ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81640" y="62434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452,05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94400" y="62434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155,14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148480" y="476280"/>
              <a:ext cx="180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hnson and Associ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03760" y="858960"/>
              <a:ext cx="208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lance Sheet as at 31 March 20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73280" y="2733840"/>
              <a:ext cx="702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73280" y="2733840"/>
              <a:ext cx="7020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473280" y="3205080"/>
              <a:ext cx="7020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60680" y="2733840"/>
              <a:ext cx="1800" cy="48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62320" y="2746440"/>
              <a:ext cx="1800" cy="47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62320" y="2746440"/>
              <a:ext cx="12960" cy="47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73280" y="3519360"/>
              <a:ext cx="702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594320" y="2733840"/>
              <a:ext cx="1440" cy="48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275440" y="2746440"/>
              <a:ext cx="1440" cy="47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473280" y="3684600"/>
              <a:ext cx="702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473280" y="3684600"/>
              <a:ext cx="7020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67160" y="4173480"/>
              <a:ext cx="703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67160" y="4173480"/>
              <a:ext cx="7030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467160" y="4327560"/>
              <a:ext cx="7030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467160" y="4352760"/>
              <a:ext cx="7030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467160" y="5133960"/>
              <a:ext cx="703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467160" y="5133960"/>
              <a:ext cx="7030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67160" y="5919840"/>
              <a:ext cx="703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467160" y="6232680"/>
              <a:ext cx="703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67160" y="6232680"/>
              <a:ext cx="7030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467160" y="6386400"/>
              <a:ext cx="70308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467160" y="6411960"/>
              <a:ext cx="7030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1040" y="299880"/>
              <a:ext cx="25560" cy="629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78480" y="325440"/>
              <a:ext cx="25560" cy="626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60680" y="3519360"/>
              <a:ext cx="1800" cy="17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162320" y="3530520"/>
              <a:ext cx="1800" cy="166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62320" y="3530520"/>
              <a:ext cx="12960" cy="16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94320" y="3519360"/>
              <a:ext cx="1440" cy="17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75440" y="3530520"/>
              <a:ext cx="1440" cy="166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06600" y="299880"/>
              <a:ext cx="489744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67160" y="1949400"/>
              <a:ext cx="703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67160" y="1949400"/>
              <a:ext cx="7030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605480" y="2733840"/>
              <a:ext cx="68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05480" y="2733840"/>
              <a:ext cx="6825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05480" y="3205080"/>
              <a:ext cx="6825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05480" y="3519360"/>
              <a:ext cx="68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05480" y="3684600"/>
              <a:ext cx="68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605480" y="3684600"/>
              <a:ext cx="6825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600440" y="4173480"/>
              <a:ext cx="682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600440" y="4173480"/>
              <a:ext cx="6829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00440" y="4327560"/>
              <a:ext cx="6829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600440" y="4352760"/>
              <a:ext cx="682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600440" y="5133960"/>
              <a:ext cx="68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00440" y="5133960"/>
              <a:ext cx="6829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00440" y="5919840"/>
              <a:ext cx="682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00440" y="6232680"/>
              <a:ext cx="68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00440" y="6232680"/>
              <a:ext cx="6829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600440" y="6386400"/>
              <a:ext cx="68292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00440" y="6411960"/>
              <a:ext cx="682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6600" y="6567480"/>
              <a:ext cx="489744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40000" y="2549520"/>
              <a:ext cx="1033560" cy="122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362480" y="2549520"/>
              <a:ext cx="1035000" cy="122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"/>
          <p:cNvGrpSpPr/>
          <p:nvPr/>
        </p:nvGrpSpPr>
        <p:grpSpPr>
          <a:xfrm>
            <a:off x="630360" y="1643040"/>
            <a:ext cx="7883280" cy="3578400"/>
            <a:chOff x="630360" y="1643040"/>
            <a:chExt cx="7883280" cy="3578400"/>
          </a:xfrm>
        </p:grpSpPr>
        <p:sp>
          <p:nvSpPr>
            <p:cNvPr id="546" name=""/>
            <p:cNvSpPr/>
            <p:nvPr/>
          </p:nvSpPr>
          <p:spPr>
            <a:xfrm>
              <a:off x="896760" y="2805120"/>
              <a:ext cx="7588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37040" y="2805120"/>
              <a:ext cx="11890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37040" y="3746520"/>
              <a:ext cx="11955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96760" y="2805120"/>
              <a:ext cx="7588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937040" y="2805120"/>
              <a:ext cx="11890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37040" y="3746520"/>
              <a:ext cx="11955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42960" y="1655640"/>
              <a:ext cx="7859520" cy="355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811600" y="236376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31-Mar-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643200" y="236376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31-Mar-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51520" y="236376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31-Mar-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683480" y="236376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31-Mar-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95680" y="2673360"/>
              <a:ext cx="75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xed ass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53000" y="26780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820,04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84960" y="26780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034,27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37040" y="2673360"/>
              <a:ext cx="1189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hareholders fun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96400" y="2830680"/>
              <a:ext cx="67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ook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53000" y="28353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,245,7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84960" y="28353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,178,9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936680" y="283068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68240" y="28353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99840" y="28353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96400" y="2987640"/>
              <a:ext cx="158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umulated depreci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53000" y="299232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425,69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684960" y="299232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144,69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937040" y="2987640"/>
              <a:ext cx="88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fit reserv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91480" y="299232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854,6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724880" y="299232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544,79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96400" y="3144960"/>
              <a:ext cx="90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book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853000" y="31478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820,04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684960" y="31478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034,27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936320" y="3144960"/>
              <a:ext cx="120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valuation r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998040" y="31478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1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30000" y="31478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1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936680" y="3300480"/>
              <a:ext cx="152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tal Shareholders fun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91480" y="33051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676,6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24880" y="33051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366,79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96760" y="3457440"/>
              <a:ext cx="88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rrent ass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96760" y="3589200"/>
              <a:ext cx="885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96400" y="3614760"/>
              <a:ext cx="41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oc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58120" y="36194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12,5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789720" y="36194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89,3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936680" y="3614760"/>
              <a:ext cx="1204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ng-term liabil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96760" y="377208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b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53000" y="37767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254,5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84960" y="37767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740,0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936680" y="3772080"/>
              <a:ext cx="30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891480" y="37767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7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724880" y="37767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7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96760" y="392904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58120" y="393372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40,5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789720" y="393372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2,4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37040" y="3929040"/>
              <a:ext cx="1239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ng-term creditor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68240" y="393372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5,4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899840" y="393372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8,35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96760" y="4086360"/>
              <a:ext cx="124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tal Current Ass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853000" y="40910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307,6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84960" y="40910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441,8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36320" y="4086360"/>
              <a:ext cx="1500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tal long-term liabil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91480" y="40910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775,4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24880" y="40910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788,35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96040" y="4398840"/>
              <a:ext cx="739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vest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958120" y="440388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789720" y="440388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937040" y="4398840"/>
              <a:ext cx="1033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rrent liabil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937040" y="4530600"/>
              <a:ext cx="10335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937400" y="4556160"/>
              <a:ext cx="56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redi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91480" y="45608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875,6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724880" y="45608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520,9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96040" y="4867200"/>
              <a:ext cx="100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tal Invest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53000" y="48718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,327,66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684960" y="48718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,676,09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35960" y="4867200"/>
              <a:ext cx="1409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otal finance employ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891480" y="48718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,327,66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724880" y="48718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,676,09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696480" y="1819440"/>
              <a:ext cx="180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hnson and Associ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51760" y="2036880"/>
              <a:ext cx="208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lance Sheet as at 31 March 20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797200" y="2506680"/>
              <a:ext cx="64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97200" y="250668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629160" y="2506680"/>
              <a:ext cx="64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629160" y="250668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837480" y="2506680"/>
              <a:ext cx="64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837480" y="250668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797200" y="3135240"/>
              <a:ext cx="64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797200" y="313524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37480" y="3292560"/>
              <a:ext cx="64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37480" y="3292560"/>
              <a:ext cx="64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797200" y="4076640"/>
              <a:ext cx="64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797200" y="407664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29160" y="4076640"/>
              <a:ext cx="64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629160" y="407664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37480" y="4076640"/>
              <a:ext cx="64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837480" y="407664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797200" y="4861080"/>
              <a:ext cx="64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797200" y="486108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629160" y="4861080"/>
              <a:ext cx="64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629160" y="486108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37480" y="4861080"/>
              <a:ext cx="64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837480" y="486108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797200" y="5014800"/>
              <a:ext cx="642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797200" y="5040360"/>
              <a:ext cx="64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629160" y="5014800"/>
              <a:ext cx="642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29160" y="5040360"/>
              <a:ext cx="64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37480" y="5014800"/>
              <a:ext cx="642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837480" y="5040360"/>
              <a:ext cx="64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0360" y="1643040"/>
              <a:ext cx="25200" cy="357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488440" y="1668600"/>
              <a:ext cx="25200" cy="3552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55560" y="1643040"/>
              <a:ext cx="78580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669080" y="2506680"/>
              <a:ext cx="64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69080" y="250668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629160" y="3135240"/>
              <a:ext cx="64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629160" y="313524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669080" y="3292560"/>
              <a:ext cx="64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69080" y="3292560"/>
              <a:ext cx="64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669080" y="4076640"/>
              <a:ext cx="64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69080" y="407664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69080" y="4861080"/>
              <a:ext cx="64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69080" y="4861080"/>
              <a:ext cx="64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69080" y="5014800"/>
              <a:ext cx="642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669080" y="5040360"/>
              <a:ext cx="64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560" y="5195880"/>
              <a:ext cx="78580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4995720" y="2941560"/>
            <a:ext cx="7034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29360" y="2941560"/>
            <a:ext cx="6825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2019240" y="1208160"/>
            <a:ext cx="5013360" cy="4437000"/>
            <a:chOff x="2019240" y="1208160"/>
            <a:chExt cx="5013360" cy="4437000"/>
          </a:xfrm>
        </p:grpSpPr>
        <p:sp>
          <p:nvSpPr>
            <p:cNvPr id="669" name=""/>
            <p:cNvSpPr/>
            <p:nvPr/>
          </p:nvSpPr>
          <p:spPr>
            <a:xfrm>
              <a:off x="2019240" y="1220760"/>
              <a:ext cx="5002200" cy="442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95800" y="201312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31-Mar-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208560" y="201312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31-Mar-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174400" y="2322360"/>
              <a:ext cx="148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RATING ACTIV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388600" y="2484360"/>
              <a:ext cx="178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come from operating activ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39720" y="24843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399,8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52480" y="24843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465,5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386800" y="2641680"/>
              <a:ext cx="219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justed for increase in working capit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246280" y="264168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3,03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357600" y="264168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1,68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86080" y="2798640"/>
              <a:ext cx="75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xation pa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315400" y="27986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2,48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426720" y="27986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8,6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1400" y="2954160"/>
              <a:ext cx="2269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 cash provided by operating activ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139720" y="29541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134,28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252480" y="29541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205,15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78720" y="3263760"/>
              <a:ext cx="1544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VESTMENT ACTIV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85720" y="3425760"/>
              <a:ext cx="237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sh used to acquire fixed tangible ass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315400" y="34257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6,77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426720" y="34257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173320" y="3735360"/>
              <a:ext cx="1434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NANCING ACTIV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86800" y="3897360"/>
              <a:ext cx="174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crease in long term liabil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315400" y="38973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,9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426720" y="38973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,09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85000" y="405432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est pa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15400" y="405432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7,26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426720" y="405432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5,28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384280" y="4211640"/>
              <a:ext cx="82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vidends pa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280480" y="421164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792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391800" y="421164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8432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82840" y="4368960"/>
              <a:ext cx="203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 cash used by financing activ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246280" y="43689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39,4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252480" y="43689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65,7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171160" y="4675320"/>
              <a:ext cx="258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CASH AND EQUIVALENTS PROVID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246280" y="46782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28,09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426720" y="46782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9,4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175840" y="5010120"/>
              <a:ext cx="1549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h at beginning of ye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246280" y="50148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2,4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426720" y="50148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3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175840" y="5167440"/>
              <a:ext cx="1203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h at end of yea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246280" y="517212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40,5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357600" y="517212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2,4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176200" y="5324400"/>
              <a:ext cx="1683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change in cash posi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246280" y="53276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28,09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426720" y="53276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9,4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831120" y="1380960"/>
              <a:ext cx="180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hnson and Associ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063240" y="1693800"/>
              <a:ext cx="3087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h Flow Statement for year ended 31 March 20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995720" y="2941560"/>
              <a:ext cx="703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995720" y="4354560"/>
              <a:ext cx="703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995720" y="4354560"/>
              <a:ext cx="7034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995720" y="4668840"/>
              <a:ext cx="703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995720" y="4668840"/>
              <a:ext cx="7034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995720" y="4822920"/>
              <a:ext cx="7034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995720" y="4846680"/>
              <a:ext cx="7034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135160" y="1208160"/>
              <a:ext cx="489744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129360" y="2941560"/>
              <a:ext cx="68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129360" y="4354560"/>
              <a:ext cx="68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129360" y="4354560"/>
              <a:ext cx="6825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129360" y="4668840"/>
              <a:ext cx="68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129360" y="4668840"/>
              <a:ext cx="6825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129360" y="4822920"/>
              <a:ext cx="6825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129360" y="4846680"/>
              <a:ext cx="6825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"/>
          <p:cNvGrpSpPr/>
          <p:nvPr/>
        </p:nvGrpSpPr>
        <p:grpSpPr>
          <a:xfrm>
            <a:off x="0" y="3433680"/>
            <a:ext cx="4581360" cy="3424320"/>
            <a:chOff x="0" y="3433680"/>
            <a:chExt cx="4581360" cy="3424320"/>
          </a:xfrm>
        </p:grpSpPr>
        <p:sp>
          <p:nvSpPr>
            <p:cNvPr id="732" name=""/>
            <p:cNvSpPr/>
            <p:nvPr/>
          </p:nvSpPr>
          <p:spPr>
            <a:xfrm>
              <a:off x="0" y="3433680"/>
              <a:ext cx="4581360" cy="342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1800" y="3760920"/>
              <a:ext cx="3691080" cy="2444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90400" y="620568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90400" y="571500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90400" y="522288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90400" y="474336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90400" y="425304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90400" y="37609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31800" y="6205320"/>
              <a:ext cx="14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1368360" y="6205320"/>
              <a:ext cx="18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2104920" y="6205320"/>
              <a:ext cx="18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851200" y="6205320"/>
              <a:ext cx="14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3586320" y="6205320"/>
              <a:ext cx="14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4322880" y="6205320"/>
              <a:ext cx="14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31800" y="4743360"/>
              <a:ext cx="736560" cy="89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1368360" y="5408280"/>
              <a:ext cx="7365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2104920" y="4470480"/>
              <a:ext cx="746280" cy="9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2851200" y="3706560"/>
              <a:ext cx="609480" cy="76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31800" y="4743360"/>
              <a:ext cx="736560" cy="6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1368360" y="5025960"/>
              <a:ext cx="73656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2104920" y="4044600"/>
              <a:ext cx="746280" cy="9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2851200" y="3706560"/>
              <a:ext cx="27000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31800" y="4743360"/>
              <a:ext cx="736560" cy="80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1368360" y="5265720"/>
              <a:ext cx="73656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2104920" y="4305240"/>
              <a:ext cx="746280" cy="9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2851200" y="3706920"/>
              <a:ext cx="485640" cy="59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31800" y="4743360"/>
              <a:ext cx="736560" cy="9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1368360" y="5506920"/>
              <a:ext cx="73656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2104920" y="4568760"/>
              <a:ext cx="746280" cy="9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2851200" y="3706920"/>
              <a:ext cx="696960" cy="86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31800" y="4743360"/>
              <a:ext cx="736560" cy="11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1368360" y="5748480"/>
              <a:ext cx="73656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2104920" y="4830480"/>
              <a:ext cx="746280" cy="9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2851200" y="3933720"/>
              <a:ext cx="735120" cy="89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3586320" y="3706920"/>
              <a:ext cx="17460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81040" y="4687920"/>
              <a:ext cx="7128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316160" y="5583240"/>
              <a:ext cx="7128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052720" y="5354640"/>
              <a:ext cx="7128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98640" y="4414680"/>
              <a:ext cx="7164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55400" y="6118200"/>
              <a:ext cx="11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5540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55400" y="5137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82320" y="4656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82320" y="4164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82320" y="3673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99760" y="6326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36320" y="6326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072160" y="6326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19160" y="6326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553920" y="6326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290480" y="6326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331720" y="6566040"/>
              <a:ext cx="27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6200000">
              <a:off x="-848160" y="4811040"/>
              <a:ext cx="21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ash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ition at End of Year, $000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01920" y="4940280"/>
              <a:ext cx="38124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301920" y="5176800"/>
              <a:ext cx="3812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01920" y="5413320"/>
              <a:ext cx="3812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301920" y="5711760"/>
              <a:ext cx="3812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416320" y="4678200"/>
              <a:ext cx="874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416320" y="4923000"/>
              <a:ext cx="874440" cy="3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416320" y="5165640"/>
              <a:ext cx="8744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416320" y="5408640"/>
              <a:ext cx="87444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895480" y="3517920"/>
              <a:ext cx="987480" cy="231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31800" y="5716440"/>
              <a:ext cx="368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15:37:10Z</dcterms:created>
  <dc:creator>Frank</dc:creator>
  <dc:description/>
  <dc:language>en-US</dc:language>
  <cp:lastModifiedBy>frank crundwell</cp:lastModifiedBy>
  <dcterms:modified xsi:type="dcterms:W3CDTF">2007-08-16T16:35:45Z</dcterms:modified>
  <cp:revision>34</cp:revision>
  <dc:subject/>
  <dc:title>PowerPoint Presentation</dc:title>
</cp:coreProperties>
</file>